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0" y="72936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EBE7-E8B2-487A-83B1-5D1DFF54F3E3}" type="slidenum">
              <a:rPr b="0" lang="en-U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B305-3B75-4F37-96E1-AB8FA22C9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630C-E4E3-40F5-A06B-00D87819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F51A7-3702-40DE-B2EC-F8BF7577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944C4-E764-4883-89A3-1A3C413B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C076F-6F4A-4835-B6B5-F1C15161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BD1467-0060-4A05-8EED-11F88740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06B57-5B54-49D3-B72D-0420C0ED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8AEFA-BD5D-457E-9D88-B23CE201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7B92B-900E-4987-845C-075F56FF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78298F-4DE2-4583-8800-528F96D3D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42CA76-C819-4871-B540-6779E432A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9D868-1615-4640-A6ED-5F409A980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C37F-7300-41FF-BA73-13CD9973F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B4206A-2C3C-4C54-99A9-07E262C6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E1F982-94DA-4703-8EE4-3882966B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472C5C-984A-48A9-8D03-8134301D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6651ED-3EFA-4F10-9E94-34B2C84F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5CCE0F-DA78-4920-A558-F6365392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703389-CDB4-4575-B169-8C0E1869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23609-8D4C-4138-9142-DE60AD38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49762-108C-44AE-894E-B6A3BEB5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4FFB6-DD2B-467F-87B7-7EAFEA57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62CC6C-FDB2-4FFE-911B-14070AA34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ACA4-3C7F-4C0F-AB8B-35AC3B49C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2E5BE-FEA9-464A-8B17-F0C2ACCA8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406A8-4703-4223-A304-B7BD9630B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D9B74-8B98-40CD-BE1C-FF028585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C1810-D9FD-437C-9C90-80CEFF92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2180C-63BB-4A6D-A531-AA3BCA76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C57A7-B128-405B-BB80-34ED45AE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D2F60-D457-4267-8990-0A6154D9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E6059-EEBD-42D4-8258-DF594C50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4A336-4356-413A-8732-ECB42225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578DA-888E-4E79-8794-C808E483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56AD-F9B3-42E7-91BF-3AF44DC96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260DE-DF64-4FC2-BEC3-4DDD6401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B9C6D-A24D-4F5B-950C-76B7FAA14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2E4E1-F15A-4AFE-AA12-036E14693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D57AD2-ACCF-467C-9B5D-826385F41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688D72-A87D-4FDE-87AF-3DCA6213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176119-61EE-4A61-AB73-A03ADB1B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F3B27C-D8EC-404D-89FB-3740F92C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4FE59-EF46-49CD-8F27-594C4635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F7331-AD30-410A-BC01-35125F4D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0405A4-4053-405A-BDCF-153DC9F1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485E-3515-4771-93D0-7139491E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19EC89-89AE-4A22-BD86-08A4F441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D0CC88-83FE-4C14-A219-D55B8E94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4BEF4B-6D7F-48A0-BEF0-DA6A1772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E414F6-988C-4B9E-A0DE-1B706BDEF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EB7BEA-34F0-43A8-8728-A1AC66909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2DA126-02EC-4D2B-8A08-FCA91A31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9F8002-8FDF-4342-B515-F755C526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E1A713-F321-4FE9-9B1A-9A262BA5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44754C-F624-4C66-BB77-9D78B72F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33F2F1-2AA0-4861-85E2-542D215E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558F-36B3-49DF-9EC3-EEC834F0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4E9E2B-0FF4-4C93-B8E1-C17B3BB4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8BFEC9-164A-4E99-8FA7-FFCF387E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0FFF4C-4E99-4E16-B7E1-680AA444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A3713A-B0B1-413F-B20B-1072C68F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7A644A-44A0-43A9-937C-A2E4FAF4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726A5E-09AF-4A9B-9064-4AC5FE78E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B345B5-C2D2-4F5B-9676-A5E2EF148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212F2B-B9AB-4549-9027-6C02FD08C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C496F6-AB3F-478F-9043-5A596014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E519E4-64EF-4D84-ACCF-5248A47E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1062-A3E3-4C17-87D4-62895429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314990-1777-4E92-A1C9-63B56FE9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BB0212-0E99-4310-8F43-AA420EAB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7D405B-3916-449F-BB5D-F56991C6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C908FD-6B73-4993-B011-8CECBE07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F5A7AC-A67D-4629-9FE4-D910A207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0A10E1-756D-461C-9FEA-4621A368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6BC0BF-5B8F-4413-9A5B-A07659DB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39E16E-C523-4CCF-B643-871C28052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54321B-027C-44AA-AC0C-B90606DF1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9900B6-F6E7-420E-8930-624D69D44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08DD-41D4-4E3F-A5C4-643A714C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B895CB-9B27-4702-9AE0-0B37873D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B092C5-4B95-422A-BBF4-F5D499CB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E5482E-4404-47BD-9FDA-0FCFF0BD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98C975-65CB-49C3-9689-5962A3FC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23CCFE-E59C-4863-801C-1629D864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3827E6-0BB9-4961-ACDD-67AB5087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9304AD-C604-4976-86E0-E32A7861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7D0FDE-9781-4C2E-9EC8-89EF8EAA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71985D-CFDE-495D-A47F-DD994BF0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DFA302-41D5-48E2-B506-364FC2927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080E-8072-4A00-8588-4FC5D32A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D6D2EC-6DE8-42A1-8DF3-FE5E31A8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71D260-7E47-4F78-BBF7-F397E163B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0CCC48-D82E-43EB-BC85-9F9D9448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83FB2E-1284-4074-A6EB-26E96E31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2CFD84-23AA-4989-B522-4D84A198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6DED5C-C57D-47A9-8D93-00699747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59186B-992E-4DB8-9EF6-2D1523DD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415E78-654A-4CCE-A6C2-1B794174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28B9DC-0016-4052-8686-D847E544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31B177-B14D-4432-8267-7F661ED8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B730-3AEB-4EC4-AD21-4749B907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9FA403-2BB7-4A27-9839-86E94724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783605-34E9-42C6-B5BE-5AE065E2D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12BE1F-0FC0-4D86-88B0-0B722208C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0C17A6-233D-4DFD-9EC9-59DD930E2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225A00-C545-4C1A-ABF8-D53AC64B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39147A-4FC7-41C9-91C1-89333489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3F7B0C-7785-40FD-82CA-B141CA49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231A56-6663-4FAA-AF74-703A9FA2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19458A-9036-4FA4-B0BC-5B08749F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457769-0E56-460B-8E61-5D3F342B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7174-FAA5-4D64-9A46-6E8E4C78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B2A4-1DC3-4698-B96C-08D48FEB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12E773-9281-4B45-9ECB-AD635C68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1657D5-037B-42A3-BAAB-D90EF939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7FD9E0-AF30-4037-AD4B-5B3BA7BE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82C200-4B78-44ED-AA9F-E35AADCB3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A73921-D66D-4A0E-9A94-3DE2A1D66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E1527A-B208-4D1E-8543-47E9D88C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A16CA9-40D5-43FF-98DA-DDF92AC7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763938-B896-45A0-90C1-2E154D5A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AAD51C-6A4F-4DA8-AC6C-07AF011B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8477EC-CB98-47FA-A825-3B4CB81F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032E-F915-4C12-A18B-0F7AA778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5E5E65-124B-4127-BBAC-27760176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44F092-12A4-4FA9-B3B0-4C7F3737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D17ABB-4936-4B7E-9FA2-A7B10BFC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FD04E1-5B09-4AD9-A84D-AA93CB60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C5DC94-3F41-4FD9-9FF5-99305AD1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E0FD74-39E1-4174-90B0-7441CFF2D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9CAEB6-5E93-4C16-A1D4-AA16E51D7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B64CB7-603A-44CE-8220-E1B1E870F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05BFB4-15AF-49BA-BF1A-73E7C367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2ECC40-9C91-4E87-860F-1D0C80DF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0338-12F9-4078-BD58-DCB9010A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F51DE0-0286-44B6-8C6D-C14347C1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05CC9A-5882-448F-A9ED-915742BB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A5B333-7271-402D-A016-989E1424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1D625F-9A22-4155-B45F-8CE05790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458D3C-B0FE-485F-A73C-7D583482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D304FE-F7E3-4AA6-8104-6D7583E3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00DE6D-38B9-4115-90D7-D587357F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496301-F8E0-44CC-85D5-0918073EE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2ACB68-BE98-489F-8CAA-A84BAB5B3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201CD5-43BB-4D36-B86F-6E5DBEEAA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A89E-D340-4DA0-BD33-0F86C5542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C0B46C-D5DD-4E57-B61E-08CF49D5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7F615D-BEAD-4178-8828-CEEF2451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0E5439-028A-48C0-A3B6-9986157B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BA5633-A295-4B76-BE6C-4FF99C03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523BBC-F78B-420B-A740-52FB46F9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386E0B-346B-4E39-A801-35956304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29F049-DB79-40A2-9369-C7FA751F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2AF574-C7CD-4936-A102-CC071DC0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E49F6C-86AA-46A5-8383-0FB969FA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0DCEFE-A26C-4A6B-A905-3586C7B4D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F10C-F73F-4323-9ED4-26E7F79D5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EE8FB7-2B92-4998-B08D-8C2324180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C29161-91C0-4B40-90EB-4895EA596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C44DDE-25D1-4CAD-8AE5-663DB1B4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DBF4E3-BC2D-42B9-86C2-C4760DD3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F8B51A-5719-4D7F-86F3-D22603FC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3EAE6D-2560-4B51-B2F7-45EAAE2C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207660-5F57-482D-9598-9E4E2697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D8B972-BF1E-4D39-8D15-C2B7E170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26CAD0-F495-439D-95D6-0700A491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EE5B57-F108-4495-AF04-D710DFEB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20F5F-78D2-424A-8FC8-523E8C9BB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07F6C7-E2FC-482F-85C8-C71AEFFA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409C44-ABD2-4D8A-86EC-94F7FB528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6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7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62FE97-3A06-4E5B-8940-1AAE39DF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BE15B7-911A-428A-9709-98923A6D4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C691A7-FB93-4833-8BE6-8F08914A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51A56A-3E24-49E9-9456-00CE9B10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3B1E30-DA76-47E4-BA19-C7559F85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60FD06-9542-4C44-83EF-21714147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B6F28C-A854-4E74-9F77-021968EF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4640B9-0D9A-49FE-BF93-D16ECD03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F3F99-1187-41C1-81D5-64C50E02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5BB4F4-D304-47FB-A0DE-588154E9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FFDD39-C936-4C46-A005-5D0883BE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929B55-E475-4386-8317-F5630B54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3792F2-4022-4199-8779-5E8541FB7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7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8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187612-68BF-49E9-99E7-F69BF39EC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A80FF6-21C3-40DE-8B93-9482E9E0A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7133DA-733B-4FDE-BCD3-AA72AC36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E8C73C-B78B-4771-9726-F06B3F8B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EC280B-05E9-416E-9ACE-67D685D8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D2C95C-CB1B-47C7-8835-D122DA88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41A7B-C254-4AA1-8842-D99A354A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BA1E6C-54E1-4766-B3FE-220D949E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99F261-5EA5-4D5E-81DE-F9034687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27FFA2-916A-4F04-8372-33A343A9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7D6102-E723-4967-99C1-7E8EC583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9B2AF3-807A-4A7A-8870-3DE5C97F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79723F-D221-4806-8CFB-0FC09E59D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A0CCD3-A3A0-4117-9187-D5CB1D68F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5DC9D9-0E0B-42D1-B207-DEDB02DBE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5E8621-63C3-4ED0-9BA7-B0888D2D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ED8492-4E01-49B4-8BEB-C8FEB30C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94D25-D605-4A39-AB78-6139BC47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45D6A7-0C0B-4502-9427-7C62FCA2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06A8E7-1C57-40F1-A933-FCD3B4A6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3CD24D-5A6B-4C6B-B9D3-8CB19730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88D4D3-43B4-43A0-82FD-D3924918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B72C7B-872F-4B1B-B9F1-2105FF53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A2B1FD-5069-4399-963B-8D24B97F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EDD0BE-F8F4-4CD6-8E72-E73438F3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991350-433A-4D2B-9DE5-18495BC99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0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580F10-821B-4780-80D3-0E3C11C22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C5A4D7F-7076-4D3E-8D76-C7072C0D3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61735-ED61-4A3B-A501-D6DD3DE5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AB21FF-54EB-4FB8-AAB9-D159676A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2697FB-9A9A-4173-89A6-CEF4A765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FB7E8A-D628-48A2-86F2-A40D589C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1841B3D-3E98-4C81-9E08-4B5D3A08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4C06B2-30AF-42E3-8FE8-DF5DAB68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B5E7116-324A-45F9-9430-F6DE492C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5AD16C9-ABB9-4084-B786-5B03A72A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3F1CCF-097E-4EC6-B1DD-FCF7C677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FF5888-D5B5-4D5E-8676-B40DDADF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D1F6DD0-3908-4663-B196-43A4E3D9C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76CC-1F24-4A6E-8B7A-9538A30A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15D30-D324-44B6-AEC3-5AA9EDB5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0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1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B040893-5313-4973-9106-E782FC6DA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4B028AB-D11D-4031-BC90-13B7F2C11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9311EF-1EEC-4218-83D8-747E5426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34CC8AB-93B8-4DA2-9A4B-D4C3C7B0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DFA243-66E7-4A51-9886-742A94D9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7D35ED-4597-40E9-A6C3-2770F17A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0D70126-CAAD-4D83-862F-84459DF8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016B62A-3120-4FC6-B30E-C94628A7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FE6218-D447-4CD5-A5DD-F1F55BB4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36177F-9802-40D1-9DB6-6558D055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66ABB-D49C-4586-B23B-A70C4C7E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3D826E3-D399-4D1B-868A-6431EDFA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B71982-9337-4EE6-BED5-351468D1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1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A1E1B6-71F2-4060-9535-78FFB5683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E705B-AE0D-48D6-946A-0FD7351D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C69D2-CB8F-4EE5-83B6-28766F1A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36EC6-651D-4125-85A8-E3ED3151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1BF36-665C-448E-90F7-CCCA1EE1A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6EE54-EDBB-4EDB-BDBD-4D295F16D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94DDB-CC55-4EBB-BF32-AFF466137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FCFF6-A39F-4A90-BFF1-A1A67D48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A3E95-8712-4141-BA89-DF687AA9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94FE-2993-4134-B989-045F39D0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E16DF-9600-4607-BD90-DE5224AB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5854F-B536-4D19-B363-7E6A9352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D772E-8B82-4C9E-8BAC-8734A9EF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FA930-4104-4476-B392-EFB12B3F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4D8D8-0F24-4F2D-877F-20E41687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97188-CF1F-40CC-B62A-C4E84416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8E8F0-15DC-4F2B-8B56-FF466EF3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8FFE6-782E-472F-8A49-616BFFBB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0BB44-C39D-407F-B1B7-81293095A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1E5EC-88D0-4C39-9433-14F740A17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3703-FADF-4878-BD6B-68C26B71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F9588-F131-41D9-BDD3-378161EC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3962A-C55E-4214-BE95-3B8368ED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B89F2-6758-42E5-8983-B82AB321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51535-037D-40B8-A63E-5AC365A8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DCAC5-1C33-446A-A651-D47A9D3F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3ECC7-E296-4396-8A1A-DCD0ED1A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A0001-71ED-4E9D-9222-AC9B30A1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A7366-BDB0-41FE-843F-9EF41F3D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C2228-5E9A-4BE7-9598-802F2F19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209B1-551E-42CC-BA59-9B4DDE836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B572-9EED-4EAA-8F9F-C3423B8C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32FD5-7CF4-4DDB-84BD-9A9FF898C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10F01-D2FD-4F9B-8F80-509852335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C0597-82AF-4478-91A0-E6939322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908CE-120B-48E2-9744-16D0B788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EA86A-A97F-4AB0-BDDA-DAD32708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EDE84-D093-4BC3-87A1-3BBFCF35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D20B0-2F43-4281-90CC-A382F147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6EF66-5066-4476-B437-DA317B97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329E7-9A02-4297-BE9D-5C1D9641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AFCC4-7C87-4973-8A80-F551A145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7ADA-1826-43E3-9A1A-391B5603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595C1-9672-4309-88E7-A07D52B0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FE49D-4812-4FE1-B4E0-C05676877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0529D-B464-4745-96D7-D482E6174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74BA2-E9A3-4D15-B4E4-DADD0EFD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04DA9-4542-42FD-A8FA-C229D88F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DE69F-A3CA-40DA-AB9C-7CC94AD1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EB318-6204-48A0-8A52-DF0A70FC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146EC-291C-45D2-B5B4-5E2F80C8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AD76D-503A-4BD6-ADAE-1D295D53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419EC-4BEC-4698-A9CA-C4621B96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FFE4-4A4A-40F1-9FF8-31CC6788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26E0A-6FD2-49C2-8F90-FAA82209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4D60F-E174-4AC9-89AA-3E9C1DD5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3F11E-5D4B-48EF-9E69-40A0C756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A28C2-16F0-4021-89B7-D59028554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5D48E-FF96-4346-BE7B-6806B4E50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389AD-4A52-4045-B272-AF8910C0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836BB-4810-439C-9468-BF00777D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5EDB6-05F3-4AF6-8E5C-F89B00CE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ABD3B-BBEA-4C00-9EBF-92450D93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5FA01-950B-4853-BFBF-82B4ED58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250C-1956-43D5-8DDB-79788C2C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3E377-4595-4CD9-9EA4-28EA82C8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F6768-198F-4E98-8518-D9533942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B31DB-2116-474B-8E24-94A7C43B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8AACE-3B9D-40B5-B91A-3109E900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B9508-9DF0-4653-AD7E-8AEF6A47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2C411-021B-4BFA-856A-1F6F9AAE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BABAD-B963-4280-9600-28047B590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FAA9F-3FE1-4F43-94CA-60B683998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722956-0AC1-4E56-9039-20FD3773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F86D2-A274-440E-B955-128637C7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" name="Group 1027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2" name="Rectangle 1028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Rectangle 1029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" name="Group 1030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" name="Rectangle 1031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Rectangle 1032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" name="Rectangle 1033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34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035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1FB7-C227-48EE-AC46-B6618169B126}" type="datetime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B471-3398-4660-B94B-DFFFDE16338F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F23C-DA2A-44E0-9ACF-FE25927F901E}" type="datetime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C321-EBAA-41C0-BFAF-BE181B771DBF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6EAD-BFAA-458C-9140-B3951DF11671}" type="datetime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6E8E-26BB-49A7-9903-5E6227B21E64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253C-45AF-4315-9DD4-9EECB3B0D235}" type="datetime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7BAF-FB8C-4B71-889E-47C9AB463960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C883-D4CF-408C-B56F-E06F7816F310}" type="datetime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D1FA-B72F-466D-9540-1799A5997709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4647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3759-6A30-4C22-85B9-BD5B6787765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5333760" y="6629040"/>
            <a:ext cx="3809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                                          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http://numericalmethods.eng.usf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666E-44D0-4881-8150-C9A062E42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dt" idx="43"/>
          </p:nvPr>
        </p:nvSpPr>
        <p:spPr>
          <a:xfrm>
            <a:off x="4647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94E7-81B4-48AC-AC45-482618664B4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ftr" idx="44"/>
          </p:nvPr>
        </p:nvSpPr>
        <p:spPr>
          <a:xfrm>
            <a:off x="5333760" y="6629040"/>
            <a:ext cx="3809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                                          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http://numericalmethods.eng.usf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sldNum" idx="45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5DDC-5386-4FBB-A0BF-70828DE0E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46"/>
          </p:nvPr>
        </p:nvSpPr>
        <p:spPr>
          <a:xfrm>
            <a:off x="4647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11F3-299C-4069-9B3A-C70460E4C6B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47"/>
          </p:nvPr>
        </p:nvSpPr>
        <p:spPr>
          <a:xfrm>
            <a:off x="5333760" y="6629040"/>
            <a:ext cx="3809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                                          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http://numericalmethods.eng.usf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48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61C2-CC6D-4A3A-A08F-90F348514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dt" idx="49"/>
          </p:nvPr>
        </p:nvSpPr>
        <p:spPr>
          <a:xfrm>
            <a:off x="4647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A3DE-7E66-47E6-AC81-31236ED2998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ftr" idx="50"/>
          </p:nvPr>
        </p:nvSpPr>
        <p:spPr>
          <a:xfrm>
            <a:off x="5333760" y="6629040"/>
            <a:ext cx="3809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                                          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http://numericalmethods.eng.usf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sldNum" idx="5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7F10-2E17-4FB3-9205-EA77F6D57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dt" idx="52"/>
          </p:nvPr>
        </p:nvSpPr>
        <p:spPr>
          <a:xfrm>
            <a:off x="4647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1D9B-2C74-41D0-81B7-178B7F62855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ftr" idx="53"/>
          </p:nvPr>
        </p:nvSpPr>
        <p:spPr>
          <a:xfrm>
            <a:off x="5333760" y="6629040"/>
            <a:ext cx="3809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                                          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http://numericalmethods.eng.usf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 type="sldNum" idx="5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B77C-AA1F-401D-A800-F815AEB5D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dt" idx="55"/>
          </p:nvPr>
        </p:nvSpPr>
        <p:spPr>
          <a:xfrm>
            <a:off x="4647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BBAB-9A6C-48A9-B697-67B45021F8E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ftr" idx="56"/>
          </p:nvPr>
        </p:nvSpPr>
        <p:spPr>
          <a:xfrm>
            <a:off x="5333760" y="6629040"/>
            <a:ext cx="3809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                                          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http://numericalmethods.eng.usf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sldNum" idx="57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21BE-CBEC-4029-A6C2-340D4BDB8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647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A024-A6DE-407B-9FF6-A74269F5A56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5333760" y="6629040"/>
            <a:ext cx="3809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                                          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http://numericalmethods.eng.usf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D437-73DE-4DD4-B8C6-81AD682C1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 type="dt" idx="58"/>
          </p:nvPr>
        </p:nvSpPr>
        <p:spPr>
          <a:xfrm>
            <a:off x="4647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80DA-EA00-4A9E-B868-1B987890EED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 type="ftr" idx="59"/>
          </p:nvPr>
        </p:nvSpPr>
        <p:spPr>
          <a:xfrm>
            <a:off x="5333760" y="6629040"/>
            <a:ext cx="3809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                                          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http://numericalmethods.eng.usf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 type="sldNum" idx="60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9C2A-993A-4D25-A900-E5447125E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 type="dt" idx="61"/>
          </p:nvPr>
        </p:nvSpPr>
        <p:spPr>
          <a:xfrm>
            <a:off x="4647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5A82-FFA9-4B45-8E8B-DD955CB6A30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 type="ftr" idx="62"/>
          </p:nvPr>
        </p:nvSpPr>
        <p:spPr>
          <a:xfrm>
            <a:off x="5333760" y="6629040"/>
            <a:ext cx="3809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                                          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http://numericalmethods.eng.usf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 type="sldNum" idx="63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3ED3-6C98-4429-98CD-4CAF31F20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 type="dt" idx="64"/>
          </p:nvPr>
        </p:nvSpPr>
        <p:spPr>
          <a:xfrm>
            <a:off x="4647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D512-5FAA-414C-817C-E4B2C1A7865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 type="ftr" idx="65"/>
          </p:nvPr>
        </p:nvSpPr>
        <p:spPr>
          <a:xfrm>
            <a:off x="5333760" y="6629040"/>
            <a:ext cx="3809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                                          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http://numericalmethods.eng.usf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 type="sldNum" idx="66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6E05-5C9B-4899-97B3-31D9EB693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7"/>
          </p:nvPr>
        </p:nvSpPr>
        <p:spPr>
          <a:xfrm>
            <a:off x="4647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899A-4835-4F1B-B52A-546FB81DFC8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8"/>
          </p:nvPr>
        </p:nvSpPr>
        <p:spPr>
          <a:xfrm>
            <a:off x="5333760" y="6629040"/>
            <a:ext cx="3809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                                          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http://numericalmethods.eng.usf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9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83EA-C50E-4D25-8C96-42676CB6B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 type="dt" idx="70"/>
          </p:nvPr>
        </p:nvSpPr>
        <p:spPr>
          <a:xfrm>
            <a:off x="4647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FE32-5093-4E56-A8FA-79B99B683CE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 type="ftr" idx="71"/>
          </p:nvPr>
        </p:nvSpPr>
        <p:spPr>
          <a:xfrm>
            <a:off x="5333760" y="6629040"/>
            <a:ext cx="3809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                                          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http://numericalmethods.eng.usf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 type="sldNum" idx="72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46FC-89C7-4F16-A9CC-224AEE830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 type="dt" idx="73"/>
          </p:nvPr>
        </p:nvSpPr>
        <p:spPr>
          <a:xfrm>
            <a:off x="4647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AE51-C0A3-4FBC-820C-D0FE02B407A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 type="ftr" idx="74"/>
          </p:nvPr>
        </p:nvSpPr>
        <p:spPr>
          <a:xfrm>
            <a:off x="5333760" y="6629040"/>
            <a:ext cx="3809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                                          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http://numericalmethods.eng.usf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 type="sldNum" idx="75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1059-F828-4E76-B332-A720E22C8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dt" idx="76"/>
          </p:nvPr>
        </p:nvSpPr>
        <p:spPr>
          <a:xfrm>
            <a:off x="4647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62C7-DF73-4C29-A84A-7543AF8A831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ftr" idx="77"/>
          </p:nvPr>
        </p:nvSpPr>
        <p:spPr>
          <a:xfrm>
            <a:off x="5333760" y="6629040"/>
            <a:ext cx="3809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                                          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http://numericalmethods.eng.usf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sldNum" idx="78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4AAC-313A-486F-AF15-ADEAF6D1C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8189-F6A2-4812-AA4E-273A2E691DA8}" type="datetime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3AB6-12DF-4FC9-A585-55B183C5CE88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7ABB-1A30-43D1-819B-9795E7841718}" type="datetime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EA6A-7A5B-4AAA-ABAC-33B6A4BE4D36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D7AF-DF4C-42C5-830B-BAF8D1EF80D6}" type="datetime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8545-4677-4908-8407-508B366C1A33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B276-17EB-460D-B723-E00C71B2F35C}" type="datetime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B79B-BC84-4F1F-9E7E-4BA84D150E32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7351-A2B3-4B0D-9FDA-12220465ECCF}" type="datetime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96C4-5913-4DAA-B9D1-9A467FA71FC0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FA0A-3DEE-471A-9D28-78EC863B8982}" type="datetime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5922-78CD-46F5-BE2B-6CBD55DA053F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4029-E4B6-4565-B68C-608558C7EEA3}" type="datetime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33C6-7D18-4F58-A47C-E3199C866250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8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0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9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Lagrange Method of Interpolation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    </a:t>
            </a:r>
            <a:br>
              <a:rPr sz="4800"/>
            </a:br>
            <a:br>
              <a:rPr sz="4800"/>
            </a:br>
            <a:br>
              <a:rPr sz="4000"/>
            </a:b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Slide Number Placeholder 5"/>
          <p:cNvSpPr/>
          <p:nvPr/>
        </p:nvSpPr>
        <p:spPr>
          <a:xfrm>
            <a:off x="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82FC-E693-4EBB-8B64-F899F1AE52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64480" cy="121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Quadratic Interpolation (contd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66" name="Object 144"/>
          <p:cNvGraphicFramePr/>
          <p:nvPr/>
        </p:nvGraphicFramePr>
        <p:xfrm>
          <a:off x="784080" y="1887480"/>
          <a:ext cx="8286840" cy="474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7" name="Object 14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080" y="1887480"/>
                    <a:ext cx="828684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Slide Number Placeholder 5"/>
          <p:cNvSpPr/>
          <p:nvPr/>
        </p:nvSpPr>
        <p:spPr>
          <a:xfrm>
            <a:off x="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B71A-03E6-4B52-80A1-FF2FA3C1F4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ubic Interpo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0" name="Text Box 3"/>
          <p:cNvSpPr/>
          <p:nvPr/>
        </p:nvSpPr>
        <p:spPr>
          <a:xfrm>
            <a:off x="6308640" y="28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1" name="Rectangle 4"/>
          <p:cNvSpPr/>
          <p:nvPr/>
        </p:nvSpPr>
        <p:spPr>
          <a:xfrm>
            <a:off x="0" y="303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2" name="Rectangle 5"/>
          <p:cNvSpPr/>
          <p:nvPr/>
        </p:nvSpPr>
        <p:spPr>
          <a:xfrm>
            <a:off x="4024440" y="329184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3" name="Rectangle 6"/>
          <p:cNvSpPr/>
          <p:nvPr/>
        </p:nvSpPr>
        <p:spPr>
          <a:xfrm>
            <a:off x="0" y="257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4" name="Rectangle 7"/>
          <p:cNvSpPr/>
          <p:nvPr/>
        </p:nvSpPr>
        <p:spPr>
          <a:xfrm>
            <a:off x="1800" y="27979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5" name="Rectangle 8"/>
          <p:cNvSpPr/>
          <p:nvPr/>
        </p:nvSpPr>
        <p:spPr>
          <a:xfrm>
            <a:off x="1800" y="329184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6" name="Rectangle 9"/>
          <p:cNvSpPr/>
          <p:nvPr/>
        </p:nvSpPr>
        <p:spPr>
          <a:xfrm>
            <a:off x="1800" y="378540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7" name="Rectangle 21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78" name="Object 46"/>
          <p:cNvGraphicFramePr/>
          <p:nvPr/>
        </p:nvGraphicFramePr>
        <p:xfrm>
          <a:off x="914400" y="2060640"/>
          <a:ext cx="7431120" cy="178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9" name="Object 4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60640"/>
                    <a:ext cx="743112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Slide Number Placeholder 5"/>
          <p:cNvSpPr/>
          <p:nvPr/>
        </p:nvSpPr>
        <p:spPr>
          <a:xfrm>
            <a:off x="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E1DB-0315-40EE-9A84-D5BFD322EF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ubic Interpolation (cont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82" name="Object 1028"/>
          <p:cNvGraphicFramePr/>
          <p:nvPr/>
        </p:nvGraphicFramePr>
        <p:xfrm>
          <a:off x="228600" y="2971800"/>
          <a:ext cx="426708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3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971800"/>
                    <a:ext cx="42670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4" name="Object 1029"/>
          <p:cNvGraphicFramePr/>
          <p:nvPr/>
        </p:nvGraphicFramePr>
        <p:xfrm>
          <a:off x="3944880" y="2209680"/>
          <a:ext cx="4970520" cy="3770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85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44880" y="2209680"/>
                    <a:ext cx="497052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Slide Number Placeholder 5"/>
          <p:cNvSpPr/>
          <p:nvPr/>
        </p:nvSpPr>
        <p:spPr>
          <a:xfrm>
            <a:off x="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B1BD-4201-43FD-8FFB-F1AE8BC976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ubic Interpolation (cont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88" name="Object 22"/>
          <p:cNvGraphicFramePr/>
          <p:nvPr/>
        </p:nvGraphicFramePr>
        <p:xfrm>
          <a:off x="987480" y="2060640"/>
          <a:ext cx="7778520" cy="399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9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7480" y="2060640"/>
                    <a:ext cx="7778520" cy="39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Slide Number Placeholder 5"/>
          <p:cNvSpPr/>
          <p:nvPr/>
        </p:nvSpPr>
        <p:spPr>
          <a:xfrm>
            <a:off x="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97C2-D5A9-4F20-8F08-77500EAC0E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ubic Interpolation (cont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2" name="TextBox 6"/>
          <p:cNvSpPr/>
          <p:nvPr/>
        </p:nvSpPr>
        <p:spPr>
          <a:xfrm>
            <a:off x="838080" y="175248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bsolute relative approximate error obtained between the results from the second and third order polynomial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3" name="Object 14"/>
              <p:cNvSpPr txBox="1"/>
              <p:nvPr/>
            </p:nvSpPr>
            <p:spPr>
              <a:xfrm>
                <a:off x="2666880" y="2590920"/>
                <a:ext cx="3746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∈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1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19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1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</m:den>
                        </m:f>
                      </m:e>
                    </m: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729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Slide Number Placeholder 5"/>
          <p:cNvSpPr/>
          <p:nvPr/>
        </p:nvSpPr>
        <p:spPr>
          <a:xfrm>
            <a:off x="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4464-FE04-4337-A494-0EEDEF1181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son T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6" name="Rectangle 81"/>
          <p:cNvSpPr/>
          <p:nvPr/>
        </p:nvSpPr>
        <p:spPr>
          <a:xfrm>
            <a:off x="0" y="41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97" name="Object 84"/>
          <p:cNvGraphicFramePr/>
          <p:nvPr/>
        </p:nvGraphicFramePr>
        <p:xfrm>
          <a:off x="-725400" y="2932200"/>
          <a:ext cx="10594800" cy="294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8" name="Object 8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25400" y="2932200"/>
                    <a:ext cx="10594800" cy="29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Slide Number Placeholder 6"/>
          <p:cNvSpPr/>
          <p:nvPr/>
        </p:nvSpPr>
        <p:spPr>
          <a:xfrm>
            <a:off x="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C725-7DC9-4604-9E4C-DFE5D144A5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nterpolation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0288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0" name="Rectangle 4"/>
          <p:cNvSpPr/>
          <p:nvPr/>
        </p:nvSpPr>
        <p:spPr>
          <a:xfrm>
            <a:off x="288612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1" name="Text Box 5"/>
          <p:cNvSpPr/>
          <p:nvPr/>
        </p:nvSpPr>
        <p:spPr>
          <a:xfrm>
            <a:off x="380880" y="1981080"/>
            <a:ext cx="830592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iven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, ……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, find the value of ‘y’ at a value of ‘x’ that is not giv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2" name="Object 6"/>
          <p:cNvGraphicFramePr/>
          <p:nvPr/>
        </p:nvGraphicFramePr>
        <p:xfrm>
          <a:off x="1752480" y="2971800"/>
          <a:ext cx="4496040" cy="35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971800"/>
                    <a:ext cx="4496040" cy="35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Slide Number Placeholder 6"/>
          <p:cNvSpPr/>
          <p:nvPr/>
        </p:nvSpPr>
        <p:spPr>
          <a:xfrm>
            <a:off x="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4D04-62D8-4C09-B1DE-C21F3B09A4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pola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olynomials are the most common choice of interpolants because they are easy to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Evaluat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, and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7" name="Rectangle 8"/>
          <p:cNvSpPr/>
          <p:nvPr/>
        </p:nvSpPr>
        <p:spPr>
          <a:xfrm>
            <a:off x="285768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Slide Number Placeholder 6"/>
          <p:cNvSpPr/>
          <p:nvPr/>
        </p:nvSpPr>
        <p:spPr>
          <a:xfrm>
            <a:off x="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FF6C-E11D-49B8-8400-658249DA2A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agrangian Interpol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0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1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2" name="Rectangle 2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3" name="Rectangle 28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4" name="Rectangle 29"/>
          <p:cNvSpPr/>
          <p:nvPr/>
        </p:nvSpPr>
        <p:spPr>
          <a:xfrm>
            <a:off x="1800" y="305208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5" name="Rectangle 30"/>
          <p:cNvSpPr/>
          <p:nvPr/>
        </p:nvSpPr>
        <p:spPr>
          <a:xfrm>
            <a:off x="1800" y="377460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6" name="Picture 37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76312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Picture 13" descr="mws_che_inp_txt_direct_Fig1"/>
          <p:cNvPicPr/>
          <p:nvPr/>
        </p:nvPicPr>
        <p:blipFill>
          <a:blip r:embed="rId1"/>
          <a:stretch/>
        </p:blipFill>
        <p:spPr>
          <a:xfrm>
            <a:off x="4257720" y="2800440"/>
            <a:ext cx="4581360" cy="3448080"/>
          </a:xfrm>
          <a:prstGeom prst="rect">
            <a:avLst/>
          </a:prstGeom>
          <a:ln w="0">
            <a:noFill/>
          </a:ln>
        </p:spPr>
      </p:pic>
      <p:sp>
        <p:nvSpPr>
          <p:cNvPr id="1108" name="Slide Number Placeholder 6"/>
          <p:cNvSpPr/>
          <p:nvPr/>
        </p:nvSpPr>
        <p:spPr>
          <a:xfrm>
            <a:off x="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4A09-F894-42FA-BD3C-2400AE472D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find how much heat is required to bring a kettle of water to boiling point, you are asked to calculate the specific heat of water at 6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. Use a first, second and third order Lagrange polynomial to determine the value of the specific heat at T = 6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Rectangle 4"/>
          <p:cNvSpPr/>
          <p:nvPr/>
        </p:nvSpPr>
        <p:spPr>
          <a:xfrm>
            <a:off x="333360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2" name="Rectangle 5"/>
          <p:cNvSpPr/>
          <p:nvPr/>
        </p:nvSpPr>
        <p:spPr>
          <a:xfrm>
            <a:off x="2066760" y="2100240"/>
            <a:ext cx="609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3" name="Rectangle 6"/>
          <p:cNvSpPr/>
          <p:nvPr/>
        </p:nvSpPr>
        <p:spPr>
          <a:xfrm>
            <a:off x="1790640" y="2440080"/>
            <a:ext cx="1104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533520" y="3048120"/>
            <a:ext cx="3657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Table 1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pecific heat of water as a function of temperature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15" name=""/>
          <p:cNvGraphicFramePr/>
          <p:nvPr/>
        </p:nvGraphicFramePr>
        <p:xfrm>
          <a:off x="457200" y="3733920"/>
          <a:ext cx="3276720" cy="2209680"/>
        </p:xfrm>
        <a:graphic>
          <a:graphicData uri="http://schemas.openxmlformats.org/drawingml/2006/table">
            <a:tbl>
              <a:tblPr/>
              <a:tblGrid>
                <a:gridCol w="1538280"/>
                <a:gridCol w="1738440"/>
              </a:tblGrid>
              <a:tr h="78732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erature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ecific heat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236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16" name="Object 17"/>
              <p:cNvSpPr txBox="1"/>
              <p:nvPr/>
            </p:nvSpPr>
            <p:spPr>
              <a:xfrm>
                <a:off x="762120" y="4038480"/>
                <a:ext cx="7617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°</m:t>
                        </m:r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7" name="Object 14"/>
              <p:cNvSpPr txBox="1"/>
              <p:nvPr/>
            </p:nvSpPr>
            <p:spPr>
              <a:xfrm>
                <a:off x="2279520" y="3962520"/>
                <a:ext cx="10731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 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−</m:t>
                            </m:r>
                            <m:r>
                              <m:t xml:space="preserve">°</m:t>
                            </m:r>
                            <m:r>
                              <m:t xml:space="preserve">C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Slide Number Placeholder 5"/>
          <p:cNvSpPr/>
          <p:nvPr/>
        </p:nvSpPr>
        <p:spPr>
          <a:xfrm>
            <a:off x="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92E0-1C74-41E9-ACA2-6A29D63831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ear Interpo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0" name="Text Box 8"/>
          <p:cNvSpPr/>
          <p:nvPr/>
        </p:nvSpPr>
        <p:spPr>
          <a:xfrm>
            <a:off x="762120" y="38448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1" name="Rectangle 35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2" name="Rectangle 3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3" name="Rectangle 62"/>
          <p:cNvSpPr/>
          <p:nvPr/>
        </p:nvSpPr>
        <p:spPr>
          <a:xfrm>
            <a:off x="2282760" y="306324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24" name="Object 74"/>
          <p:cNvGraphicFramePr/>
          <p:nvPr/>
        </p:nvGraphicFramePr>
        <p:xfrm>
          <a:off x="406440" y="4114800"/>
          <a:ext cx="2717640" cy="106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5" name="Object 7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4114800"/>
                    <a:ext cx="27176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6" name="Object 76"/>
          <p:cNvGraphicFramePr/>
          <p:nvPr/>
        </p:nvGraphicFramePr>
        <p:xfrm>
          <a:off x="228600" y="2514600"/>
          <a:ext cx="3517920" cy="1143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27" name="Object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514600"/>
                    <a:ext cx="35179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Slide Number Placeholder 5"/>
          <p:cNvSpPr/>
          <p:nvPr/>
        </p:nvSpPr>
        <p:spPr>
          <a:xfrm>
            <a:off x="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C100-01B9-45C0-A79C-05495E7AE5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ear Interpolation (cont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0" name="Object 11"/>
              <p:cNvSpPr txBox="1"/>
              <p:nvPr/>
            </p:nvSpPr>
            <p:spPr>
              <a:xfrm>
                <a:off x="260280" y="2057400"/>
                <a:ext cx="8731440" cy="33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≠</m:t>
                    </m:r>
                    <m:r>
                      <m:t xml:space="preserve">1</m:t>
                    </m:r>
                    <m:limLow>
                      <m:e/>
                      <m:lim>
                        <m:r>
                          <m:t xml:space="preserve">1</m:t>
                        </m:r>
                      </m:lim>
                    </m:limLow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C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C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C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4186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4199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rPr>
                        <m:lit/>
                        <m:nor/>
                      </m:rPr>
                      <m:t xml:space="preserve">C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1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4186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1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4199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8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−</m:t>
                        </m:r>
                        <m:r>
                          <m:t xml:space="preserve">°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Slide Number Placeholder 6"/>
          <p:cNvSpPr/>
          <p:nvPr/>
        </p:nvSpPr>
        <p:spPr>
          <a:xfrm>
            <a:off x="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FEDB-D484-4A50-A796-F839DC7112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adratic Interpo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3" name="Rectangle 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Rectangle 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5" name="Rectangle 10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Rectangle 12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37" name="Object 41"/>
          <p:cNvGraphicFramePr/>
          <p:nvPr/>
        </p:nvGraphicFramePr>
        <p:xfrm>
          <a:off x="1066680" y="1981080"/>
          <a:ext cx="7696440" cy="45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8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7696440" cy="45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Slide Number Placeholder 3"/>
          <p:cNvSpPr/>
          <p:nvPr/>
        </p:nvSpPr>
        <p:spPr>
          <a:xfrm>
            <a:off x="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7001-4616-48A3-A893-C04882B31B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0" name="Rectangle 2"/>
          <p:cNvSpPr/>
          <p:nvPr/>
        </p:nvSpPr>
        <p:spPr>
          <a:xfrm>
            <a:off x="1066680" y="457200"/>
            <a:ext cx="80773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adratic Interpolation (contd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1" name="Object 4"/>
              <p:cNvSpPr txBox="1"/>
              <p:nvPr/>
            </p:nvSpPr>
            <p:spPr>
              <a:xfrm>
                <a:off x="2481120" y="476424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42" name="Rectangle 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Rectangle 7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4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5" name="Rectangle 11"/>
          <p:cNvSpPr/>
          <p:nvPr/>
        </p:nvSpPr>
        <p:spPr>
          <a:xfrm>
            <a:off x="0" y="35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6" name="Rectangle 15"/>
          <p:cNvSpPr/>
          <p:nvPr/>
        </p:nvSpPr>
        <p:spPr>
          <a:xfrm>
            <a:off x="1068480" y="380304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7" name="Rectangle 17"/>
          <p:cNvSpPr/>
          <p:nvPr/>
        </p:nvSpPr>
        <p:spPr>
          <a:xfrm>
            <a:off x="1068480" y="429660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8" name="Object 3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49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0" name="Object 35"/>
              <p:cNvSpPr txBox="1"/>
              <p:nvPr/>
            </p:nvSpPr>
            <p:spPr>
              <a:xfrm>
                <a:off x="380880" y="2209680"/>
                <a:ext cx="28195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7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1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2" name="Object 37"/>
              <p:cNvSpPr txBox="1"/>
              <p:nvPr/>
            </p:nvSpPr>
            <p:spPr>
              <a:xfrm>
                <a:off x="380880" y="2743200"/>
                <a:ext cx="2835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8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3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4" name="Object 39"/>
              <p:cNvSpPr txBox="1"/>
              <p:nvPr/>
            </p:nvSpPr>
            <p:spPr>
              <a:xfrm>
                <a:off x="380880" y="3276720"/>
                <a:ext cx="2872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9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5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6" name="Object 41"/>
              <p:cNvSpPr txBox="1"/>
              <p:nvPr/>
            </p:nvSpPr>
            <p:spPr>
              <a:xfrm>
                <a:off x="228600" y="3809880"/>
                <a:ext cx="37051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≠</m:t>
                    </m:r>
                    <m:r>
                      <m:t xml:space="preserve">0</m:t>
                    </m:r>
                    <m:limLow>
                      <m:e/>
                      <m:lim>
                        <m:r>
                          <m:t xml:space="preserve">2</m:t>
                        </m:r>
                      </m:lim>
                    </m:limLow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7" name="Rectangle 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8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9" name="Object 45"/>
              <p:cNvSpPr txBox="1"/>
              <p:nvPr/>
            </p:nvSpPr>
            <p:spPr>
              <a:xfrm>
                <a:off x="228600" y="4724280"/>
                <a:ext cx="36399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≠</m:t>
                    </m:r>
                    <m:r>
                      <m:t xml:space="preserve">1</m:t>
                    </m:r>
                    <m:limLow>
                      <m:e/>
                      <m:lim>
                        <m:r>
                          <m:t xml:space="preserve">2</m:t>
                        </m:r>
                      </m:lim>
                    </m:limLow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60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Rectangle 5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2" name="Object 49"/>
              <p:cNvSpPr txBox="1"/>
              <p:nvPr/>
            </p:nvSpPr>
            <p:spPr>
              <a:xfrm>
                <a:off x="304920" y="5562720"/>
                <a:ext cx="37224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≠</m:t>
                    </m:r>
                    <m:r>
                      <m:t xml:space="preserve">2</m:t>
                    </m:r>
                    <m:limLow>
                      <m:e/>
                      <m:lim>
                        <m:r>
                          <m:t xml:space="preserve">2</m:t>
                        </m:r>
                      </m:lim>
                    </m:limLow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63" name="Rectangle 5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8T16:33:10Z</dcterms:created>
  <dc:creator>Autar Kaw, Jai Paul</dc:creator>
  <dc:description>A Power Point presentation to show how the Lagrangian mehtod of Interpolation works</dc:description>
  <cp:keywords>Power Point Lagrangian Method</cp:keywords>
  <dc:language>en-US</dc:language>
  <cp:lastModifiedBy>AHmed-HS</cp:lastModifiedBy>
  <cp:lastPrinted>1999-03-26T19:03:37Z</cp:lastPrinted>
  <dcterms:modified xsi:type="dcterms:W3CDTF">2018-09-10T20:16:23Z</dcterms:modified>
  <cp:revision>131</cp:revision>
  <dc:subject>Interpolation</dc:subject>
  <dc:title>Lagrangian Method Power Point Interpolation</dc:title>
</cp:coreProperties>
</file>